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1440" y="-5040"/>
            <a:ext cx="310176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1"/>
          </p:nvPr>
        </p:nvSpPr>
        <p:spPr>
          <a:xfrm>
            <a:off x="4049280" y="-5040"/>
            <a:ext cx="310212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ftr" idx="2"/>
          </p:nvPr>
        </p:nvSpPr>
        <p:spPr>
          <a:xfrm>
            <a:off x="-1440" y="8975880"/>
            <a:ext cx="3101760" cy="4759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3"/>
          </p:nvPr>
        </p:nvSpPr>
        <p:spPr>
          <a:xfrm>
            <a:off x="404928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2416A6E1-4F00-4A29-A935-4578EAD4480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2935440" y="8997840"/>
            <a:ext cx="12776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39536b"/>
                </a:solidFill>
                <a:latin typeface="Arial"/>
              </a:rPr>
              <a:t>Page </a:t>
            </a:r>
            <a:fld id="{469E1BB5-7500-4496-8D8E-3244AE7AD300}" type="slidenum">
              <a:rPr b="0" lang="en-US" sz="12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Img"/>
          </p:nvPr>
        </p:nvSpPr>
        <p:spPr>
          <a:xfrm>
            <a:off x="1222200" y="717120"/>
            <a:ext cx="4703760" cy="3527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dded this slide from the Authorization mod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eed clarification from Julia on what “participate” mea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e removed the Licensing/Authorization module from the last day, so this part of the intro has been beefed up som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I authorizes individuals as TSP coaches to launch and coach TSP team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dded this slide from the Authorization mod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eed clarification from Julia on what “participate” mea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e removed the Licensing/Authorization module from the last day, so this part of the intro has been beefed up som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I authorizes individuals as TSP coaches to launch and coach TSP team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dded this slide from the Authorization mod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eed clarification from Julia on what “participate” mea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343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343080" indent="-34308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343080" indent="-34308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0800" y="6566040"/>
            <a:ext cx="230724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2013 by 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3913560" y="6567480"/>
            <a:ext cx="1154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September 2013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621504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TSP Coach Training – Module 4 - </a:t>
            </a:r>
            <a:fld id="{5A5F0E6B-2080-482B-8500-0DFEF1F2FF07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7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6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1058760" y="4967280"/>
            <a:ext cx="7313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13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3910320" y="6567480"/>
            <a:ext cx="1154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September 2013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9388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8" name="Picture 8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9"/>
          <p:cNvSpPr/>
          <p:nvPr/>
        </p:nvSpPr>
        <p:spPr>
          <a:xfrm>
            <a:off x="621504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TSP Coach Training – Module 4 - </a:t>
            </a:r>
            <a:fld id="{E9FED08B-B016-4E94-8D14-47996953397D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" name="Rectangle 1038"/>
          <p:cNvSpPr/>
          <p:nvPr/>
        </p:nvSpPr>
        <p:spPr>
          <a:xfrm>
            <a:off x="1012680" y="1420920"/>
            <a:ext cx="73152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" name="Rectangle 1038"/>
          <p:cNvSpPr/>
          <p:nvPr/>
        </p:nvSpPr>
        <p:spPr>
          <a:xfrm>
            <a:off x="1165320" y="1573200"/>
            <a:ext cx="73152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800" spc="-1" strike="noStrike">
                <a:solidFill>
                  <a:srgbClr val="39536b"/>
                </a:solidFill>
                <a:latin typeface="Century Schoolbook"/>
              </a:rPr>
              <a:t>TSP Coach Training</a:t>
            </a:r>
            <a:endParaRPr b="0" lang="en-US" sz="2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br>
              <a:rPr sz="2400"/>
            </a:br>
            <a:r>
              <a:rPr b="0" lang="en-US" sz="4000" spc="-1" strike="noStrike">
                <a:solidFill>
                  <a:srgbClr val="39536b"/>
                </a:solidFill>
                <a:latin typeface="Century Schoolbook"/>
              </a:rPr>
              <a:t>Introduction</a:t>
            </a: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343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343080" indent="-34308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343080" indent="-34308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../M2%20-%20TSP%20Overview/TSP%20overview.ppt" TargetMode="External"/><Relationship Id="rId2" Type="http://schemas.openxmlformats.org/officeDocument/2006/relationships/hyperlink" Target="file:///../M3%20-%20Meeting%201/Launch%20Meeting%201.ppt" TargetMode="External"/><Relationship Id="rId3" Type="http://schemas.openxmlformats.org/officeDocument/2006/relationships/hyperlink" Target="file:///../M4%20-%20Meeting%202/Launch%20Meeting%202%20.ppt" TargetMode="External"/><Relationship Id="rId4" Type="http://schemas.openxmlformats.org/officeDocument/2006/relationships/hyperlink" Target="file:///../M5%20-%20Meeting%203/Launch%20Meeting%203.ppt" TargetMode="Externa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../M5%20-%20Meeting%203/Launch%20Meeting%203.ppt" TargetMode="External"/><Relationship Id="rId2" Type="http://schemas.openxmlformats.org/officeDocument/2006/relationships/hyperlink" Target="file:///../M6%20-%20Meeting%204/Launch%20Meeting%204.ppt" TargetMode="External"/><Relationship Id="rId3" Type="http://schemas.openxmlformats.org/officeDocument/2006/relationships/hyperlink" Target="file:///../M7%20-%20Meeting%205/Launch%20Meeting%205.ppt" TargetMode="External"/><Relationship Id="rId4" Type="http://schemas.openxmlformats.org/officeDocument/2006/relationships/hyperlink" Target="file:///../M8%20-%20Meeting%206/Launch%20Meeting%206.ppt" TargetMode="External"/><Relationship Id="rId5" Type="http://schemas.openxmlformats.org/officeDocument/2006/relationships/hyperlink" Target="file:///../M9%20-%20Meeting%207/Launch%20Meeting%207.ppt" TargetMode="External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../M10%20-%20Meeting%208&amp;9/Launch%20Meetings%208&amp;9.ppt" TargetMode="External"/><Relationship Id="rId2" Type="http://schemas.openxmlformats.org/officeDocument/2006/relationships/hyperlink" Target="file:///../M11%20-%20Other%20Considerations/Other%20Launch%20Considerations.ppt" TargetMode="External"/><Relationship Id="rId3" Type="http://schemas.openxmlformats.org/officeDocument/2006/relationships/hyperlink" Target="file:///../M12%20-%20Coaching%20Individuals%20and%20Teams/Coaching%20Individuals%20and%20Teams.ppt" TargetMode="External"/><Relationship Id="rId4" Type="http://schemas.openxmlformats.org/officeDocument/2006/relationships/hyperlink" Target="file:///../M13%20-%20Group%20Behaviors/Group%20behavior%20models.ppt" TargetMode="External"/><Relationship Id="rId5" Type="http://schemas.openxmlformats.org/officeDocument/2006/relationships/hyperlink" Target="file:///../M14%20-%20TSP%20Roles/TSP%20team%20roles.ppt" TargetMode="External"/><Relationship Id="rId6" Type="http://schemas.openxmlformats.org/officeDocument/2006/relationships/hyperlink" Target="file:///../M15%20-%20Tracking%20and%20Reporting/Running%20Track%20and%20Report.ppt" TargetMode="External"/><Relationship Id="rId7" Type="http://schemas.openxmlformats.org/officeDocument/2006/relationships/hyperlink" Target="file:///../M16%20-%20Maintaining%20Baseline%20%20Plan/Running%20Maintaining%20Plan.ppt" TargetMode="External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../M17%20-%20Quality%20Plan/Running%20Maintaining%20Quality.ppt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Use of TSP Material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17360" y="1493640"/>
            <a:ext cx="7413480" cy="48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SP materials can be used only with organizations that have a license agreement with the SEI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Only SEI certified/provisional associate coaches and coaches can use the licensed TSP materials to coach teams.  For more information please reference your organization’s license agreement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ome licensed material can be tailored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cripts, forms, specification, checklists, and guideline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ssociated instructions and standard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other licensed material, printed or electronic, cannot be changed unless agreed to in writing by the SEI; however, you may add supplementary material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Questions on licensing and authorization should be sent to: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artner@clearmodel.com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urse Topic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urse topics includ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troduc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verview of the TSP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launch proc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ther launch considera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unning the projec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arting a tea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atus and direction of the TSP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urse summar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urse Structur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typical course day will includ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ectur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ercis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ole play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last day will also include an examina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urse Schedule:  Day 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8:0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tinental breakfast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8:3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troduc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9:0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 u="sng">
                <a:solidFill>
                  <a:srgbClr val="9c2108"/>
                </a:solidFill>
                <a:uFillTx/>
                <a:latin typeface="Arial"/>
                <a:hlinkClick r:id="rId1"/>
              </a:rPr>
              <a:t>TSP Overview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0:0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rea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0:15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 u="sng">
                <a:solidFill>
                  <a:srgbClr val="9c2108"/>
                </a:solidFill>
                <a:uFillTx/>
                <a:latin typeface="Arial"/>
                <a:hlinkClick r:id="rId2"/>
              </a:rPr>
              <a:t>Launch Meeting 1 - Business Need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1:3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unch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2:3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 u="sng">
                <a:solidFill>
                  <a:srgbClr val="9c2108"/>
                </a:solidFill>
                <a:uFillTx/>
                <a:latin typeface="Arial"/>
                <a:hlinkClick r:id="rId3"/>
              </a:rPr>
              <a:t>Launch Meeting 2 - Roles and Go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2:3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rea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2:45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 u="sng">
                <a:solidFill>
                  <a:srgbClr val="9c2108"/>
                </a:solidFill>
                <a:uFillTx/>
                <a:latin typeface="Arial"/>
                <a:hlinkClick r:id="rId4"/>
              </a:rPr>
              <a:t>Launch Meeting 3 - Strategy and Proc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5:3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nd of day 1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urse Schedule:  Day 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8:0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tinental breakfast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8:3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 u="sng">
                <a:solidFill>
                  <a:srgbClr val="9c2108"/>
                </a:solidFill>
                <a:uFillTx/>
                <a:latin typeface="Arial"/>
                <a:hlinkClick r:id="rId1"/>
              </a:rPr>
              <a:t>Debrief exercise 3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9:0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 u="sng">
                <a:solidFill>
                  <a:srgbClr val="9c2108"/>
                </a:solidFill>
                <a:uFillTx/>
                <a:latin typeface="Arial"/>
                <a:hlinkClick r:id="rId2"/>
              </a:rPr>
              <a:t>Launch Meeting 4 - Overall Pla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9:45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rea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0:0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aunch Meeting 4 </a:t>
            </a: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(continued)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2:0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unch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2:3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aunch Meeting 4 </a:t>
            </a: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(continued)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:0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 u="sng">
                <a:solidFill>
                  <a:srgbClr val="9c2108"/>
                </a:solidFill>
                <a:uFillTx/>
                <a:latin typeface="Arial"/>
                <a:hlinkClick r:id="rId3"/>
              </a:rPr>
              <a:t>Launch Meeting 5 - Quality Pla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2:3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rea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2:45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 u="sng">
                <a:solidFill>
                  <a:srgbClr val="9c2108"/>
                </a:solidFill>
                <a:uFillTx/>
                <a:latin typeface="Arial"/>
                <a:hlinkClick r:id="rId4"/>
              </a:rPr>
              <a:t>Launch Meeting 6 - Bottom-up Pla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4:0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 u="sng">
                <a:solidFill>
                  <a:srgbClr val="9c2108"/>
                </a:solidFill>
                <a:uFillTx/>
                <a:latin typeface="Arial"/>
                <a:hlinkClick r:id="rId5"/>
              </a:rPr>
              <a:t>Launch Meeting 7 - Risk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5:3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nd of day 2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urse Schedule:  Day 3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17360" y="1563480"/>
            <a:ext cx="741348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8:0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tinental breakfast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8:3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 u="sng">
                <a:solidFill>
                  <a:srgbClr val="9c2108"/>
                </a:solidFill>
                <a:uFillTx/>
                <a:latin typeface="Arial"/>
                <a:hlinkClick r:id="rId1"/>
              </a:rPr>
              <a:t>Launch Meetings 8 and 9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0:0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rea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0:15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eeting 8/9 exercise presenta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1:3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 u="sng">
                <a:solidFill>
                  <a:srgbClr val="9c2108"/>
                </a:solidFill>
                <a:uFillTx/>
                <a:latin typeface="Arial"/>
                <a:hlinkClick r:id="rId2"/>
              </a:rPr>
              <a:t>Other Launch Considerations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2:0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unch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2:3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 u="sng">
                <a:solidFill>
                  <a:srgbClr val="9c2108"/>
                </a:solidFill>
                <a:uFillTx/>
                <a:latin typeface="Arial"/>
                <a:hlinkClick r:id="rId3"/>
              </a:rPr>
              <a:t>Coaching Individuals and Tea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:15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M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 u="sng">
                <a:solidFill>
                  <a:srgbClr val="9c2108"/>
                </a:solidFill>
                <a:uFillTx/>
                <a:latin typeface="Arial"/>
                <a:hlinkClick r:id="rId4"/>
              </a:rPr>
              <a:t>Group Behavior Mode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2:0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 u="sng">
                <a:solidFill>
                  <a:srgbClr val="9c2108"/>
                </a:solidFill>
                <a:uFillTx/>
                <a:latin typeface="Arial"/>
                <a:hlinkClick r:id="rId5"/>
              </a:rPr>
              <a:t>TSP Rol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2:3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rea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2:45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 u="sng">
                <a:solidFill>
                  <a:srgbClr val="9c2108"/>
                </a:solidFill>
                <a:uFillTx/>
                <a:latin typeface="Arial"/>
                <a:hlinkClick r:id="rId6"/>
              </a:rPr>
              <a:t>Tracking and Report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4:0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 u="sng">
                <a:solidFill>
                  <a:srgbClr val="9c2108"/>
                </a:solidFill>
                <a:uFillTx/>
                <a:latin typeface="Arial"/>
                <a:hlinkClick r:id="rId7"/>
              </a:rPr>
              <a:t>Maintaining the Baseline Pla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4:3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ercise: Maintaining the Baseline Pla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5:3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nd of day 3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urse Schedule:  Day 4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8:0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tinental breakfast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8:3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 u="sng">
                <a:solidFill>
                  <a:srgbClr val="9c2108"/>
                </a:solidFill>
                <a:uFillTx/>
                <a:latin typeface="Arial"/>
                <a:hlinkClick r:id="rId1"/>
              </a:rPr>
              <a:t>Maintaining a Quality Focu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0:0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rea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0:15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intaining a Quality Focus </a:t>
            </a: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(continued)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2:0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unch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:0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aching the Tea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:45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ercise: Coaching the Team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2:3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rea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2:45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aching the Team Leade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3:3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ercise: Coaching the Team Leader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4:15  PM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 u="sng">
                <a:solidFill>
                  <a:srgbClr val="39536b"/>
                </a:solidFill>
                <a:uFillTx/>
                <a:latin typeface="Arial"/>
              </a:rPr>
              <a:t>Post-Launch Coach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5:15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nd of day 4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urse Schedule:  Day 5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8:0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tinental breakfast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8:3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troducing TSP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9:3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ath to Certific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0:15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rea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0:3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urse Summar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1:0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ach exa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2:3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unch </a:t>
            </a: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(as you finish)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:0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ass Feedbac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:3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nd of cla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ogistic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stroo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lephon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essag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Questions?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ecture Overview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troductions and expecta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eneral course inform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urse objectiv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urse structur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urse schedul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ogistic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Introductions and Expectation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o we ar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am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job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o you ar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ame and organiz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job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urse expecta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periences with the PSP and the TSP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ach or Associate Coach Candidate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urse Prerequisit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17720" y="1481040"/>
            <a:ext cx="782136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Common Prerequisites</a:t>
            </a: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  <a:p>
            <a:pPr lvl="1" marL="319680" indent="-19764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signed the Code of Professional Conduct for SEI Services</a:t>
            </a: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  <a:p>
            <a:pPr lvl="1" marL="319680" indent="-19764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signed the SEI Certification Agreement</a:t>
            </a: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  <a:p>
            <a:pPr lvl="1" marL="319680" indent="-19764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sponsored by a SEI Partner of the TSP Product Suite</a:t>
            </a: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  <a:p>
            <a:pPr lvl="1" marL="319680" indent="-19764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completed pre-reading for the course</a:t>
            </a: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  <a:p>
            <a:pPr lvl="1" marL="319680" indent="-19764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  <a:p>
            <a:pPr lvl="1" marL="319680" indent="-197640"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Associate Coach</a:t>
            </a: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  <a:p>
            <a:pPr lvl="1" marL="319680" indent="-19764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complete the PSP Fundamentals or TSP Team Member Training </a:t>
            </a: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  <a:p>
            <a:pPr lvl="1" marL="319680" indent="-19764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pass the course entrance exam or the SEI-Certified PSP Developer exam</a:t>
            </a: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  <a:p>
            <a:pPr lvl="1" marL="319680" indent="-19764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  <a:p>
            <a:pPr lvl="1" marL="319680" indent="-197640"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Coach</a:t>
            </a: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  <a:p>
            <a:pPr lvl="1" marL="319680" indent="-19764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passed the SEI-Certified PSP Developer exam</a:t>
            </a: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  <a:p>
            <a:pPr lvl="1" marL="319680" indent="-19764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Helpful background</a:t>
            </a: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  <a:p>
            <a:pPr lvl="1" marL="319680" indent="-19764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a basic understanding of software engineering processes</a:t>
            </a: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  <a:p>
            <a:pPr lvl="1" marL="319680" indent="-19764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a working knowledge of project management</a:t>
            </a: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  <a:p>
            <a:pPr lvl="1" marL="319680" indent="-19764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a working knowledge of software quality management</a:t>
            </a: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  <a:p>
            <a:pPr lvl="1" marL="319680" indent="-19764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the ability to work effectively in a team</a:t>
            </a: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urse Objectiv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y the end of this course, you shoul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derstand the rationale and conceptual foundations of the TSP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 able to set up and conduct a TSP launch, relaunch, checkpoint, and postmorte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cognize and be able to deal effectively with common problems that occur in TSP launch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 able to coach a TSP team between launches, checkpoints, and postmorte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derstand the TSP introduction strateg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derstand role and responsibilities within the TSP Mentoring Progra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06560" y="890280"/>
            <a:ext cx="81374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SP Associate Coach Certificat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course is one of the requirements for becoming an SEI-Certified TSP Associate Coach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ther requirements includ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ccessful completion of the examination on the last day of this cour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ccessful completion of the TSP Associate Coach Observation Pha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sociate Coaches are certified for a period of one-year, starting with the successful completion of the observation pha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800" spc="-1" strike="noStrike">
                <a:solidFill>
                  <a:srgbClr val="9c2108"/>
                </a:solidFill>
                <a:latin typeface="Arial"/>
              </a:rPr>
              <a:t>Maintaining Associate Coach Certification</a:t>
            </a:r>
            <a:endParaRPr b="1" lang="en-US" sz="28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17360" y="1481040"/>
            <a:ext cx="77324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o maintain certification, coaches must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lead a TSP (re)launch within the one-year certification period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ubmit data for one complete TSP cycle [(re)launch, checkpoint, and postmortem] to the SEI from the teams that are being coached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ccept and use upgraded material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be sponsored by an SEI Partner for the TSP Product Suit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ssociate Coaches who allow their certification to lapse will have to redo the associate coach observation phas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SP Coach Certificat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course is one of the requirements for becoming an SEI-Certified TSP Coach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ther requirements includ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ccessful completion of the examination on the last day of this cour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ccessful completion of the TSP Coach Mentoring Progra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ccessful completion of the SEI-Certified TSP Coach exa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aches are certified for a two-year period, starting with the successful completion of the certification exa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aintaining Certificat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17360" y="1481040"/>
            <a:ext cx="77324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o maintain certification, coaches must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lead a TSP (re)launch within the two-year certification period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ubmit data for one complete TSP cycle [(re)launch, checkpoint, and postmortem] to the SEI from the teams that are being coached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ccept and use upgraded material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be sponsored by an SEI Partner for the TSP Product Suit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be an SEI-Certified PSP Developer in good standing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oaches who allow their certification to lapse will have to retake and pass the certification exam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15:45:23Z</dcterms:created>
  <dc:creator>Stacy Mitchell</dc:creator>
  <dc:description/>
  <cp:keywords/>
  <dc:language>en-US</dc:language>
  <cp:lastModifiedBy>wrn_loc_adm</cp:lastModifiedBy>
  <cp:lastPrinted>2000-12-21T16:04:54Z</cp:lastPrinted>
  <dcterms:modified xsi:type="dcterms:W3CDTF">2018-09-06T01:11:22Z</dcterms:modified>
  <cp:revision>207</cp:revision>
  <dc:subject/>
  <dc:title>No Slide Title</dc:title>
</cp:coreProperties>
</file>